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bomb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857-B2E1-4A8A-95B1-380BF579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3BE3-9AB4-4A52-BE07-5CD30945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1E6-AD6B-4B7F-A851-95641528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085A-2A96-410B-AC3B-021321B2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8DD-ACA8-42CB-97F4-103C3FF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9A13-F4AA-4579-9AAB-C5EC8CB9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F3CE-A01B-402A-9459-9F88BD90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0A45-9EB5-40D5-A17B-82824619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4D1B-BACB-417F-B088-DD88D36E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B0BA-823B-4B03-B88A-C8CEF36B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0A84-FDE6-4245-B222-160A586E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BF10-957C-47C8-98C3-A887D1FE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EAD-9BA3-48E0-A28C-EEEFEFB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2A78-2390-4CED-B6F0-9F97A858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179D-62AD-465C-A5F6-330BFD1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72E9-F5AF-4088-AA5C-C6E670826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CE4-9AE4-483B-B9C1-E720EFF3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30F-6362-4CD7-9576-5D39E24D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FB2-E471-495F-9E25-4FA9CD40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6D1-5DB3-44FD-84C7-DBB4F3F8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D4E-380E-409C-A161-8283AF0A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CA74-88D9-4136-BCE4-C4897A5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60A-5C6A-4B05-BC47-41AACE8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986-D457-492C-BFF7-8101635D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A78C-C711-4B84-B0A2-432F1CE3B02E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7549-5388-42C5-95B3-EA900A47A86D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slide" Target="slide2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5.xml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0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2.xml"/><Relationship Id="rId3" Type="http://schemas.openxmlformats.org/officeDocument/2006/relationships/image" Target="../media/image3.png"/><Relationship Id="rId4" Type="http://schemas.openxmlformats.org/officeDocument/2006/relationships/image" Target="../media/image7.jpeg"/><Relationship Id="rId5" Type="http://schemas.openxmlformats.org/officeDocument/2006/relationships/slide" Target="slide22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17.xml"/><Relationship Id="rId4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25.xml"/><Relationship Id="rId7" Type="http://schemas.openxmlformats.org/officeDocument/2006/relationships/slide" Target="slide25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image" Target="../media/image3.png"/><Relationship Id="rId6" Type="http://schemas.openxmlformats.org/officeDocument/2006/relationships/image" Target="../media/image7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" Target="slide23.xml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8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3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7d47d"/>
                </a:solidFill>
                <a:latin typeface="Arial"/>
              </a:rPr>
              <a:t>Acordul adjectivului cu substantivu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3921120" cy="35974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93" name=""/>
          <p:cNvSpPr txBox="1"/>
          <p:nvPr/>
        </p:nvSpPr>
        <p:spPr>
          <a:xfrm>
            <a:off x="4191120" y="1066320"/>
            <a:ext cx="3581280" cy="1676520"/>
          </a:xfrm>
          <a:prstGeom prst="rect">
            <a:avLst/>
          </a:prstGeom>
          <a:solidFill>
            <a:srgbClr val="f7d47d"/>
          </a:solidFill>
          <a:ln w="5724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Alegeţi o propoziţi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Recunoaşteţi substantiv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Recunoaşteţi adjectiv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Times New Roman"/>
              </a:rPr>
              <a:t>Stabiliţi acordul dintre e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4191120"/>
            <a:ext cx="60195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410080"/>
            <a:ext cx="6095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Ochii blânzi şi mângâietori privesc spre copiii vesel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066680"/>
            <a:ext cx="754380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800600"/>
            <a:ext cx="4114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7966080" y="1066680"/>
            <a:ext cx="11779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199" name="">
            <a:hlinkClick r:id="rId7" action="ppaction://hlinksldjump"/>
          </p:cNvPr>
          <p:cNvSpPr/>
          <p:nvPr/>
        </p:nvSpPr>
        <p:spPr>
          <a:xfrm>
            <a:off x="228600" y="5943600"/>
            <a:ext cx="3851280" cy="6872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Definiţie adjectiv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>
            <a:hlinkClick r:id="rId9" action="ppaction://hlinksldjump"/>
          </p:cNvPr>
          <p:cNvSpPr/>
          <p:nvPr/>
        </p:nvSpPr>
        <p:spPr>
          <a:xfrm>
            <a:off x="1447920" y="3048120"/>
            <a:ext cx="5333760" cy="76176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cc"/>
                </a:solidFill>
                <a:latin typeface="Arial"/>
              </a:rPr>
              <a:t>Pletele albe şi creţe ale buniculuiparcă sunt nişte ciorchini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27432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lastslide"/>
          </p:cNvPr>
          <p:cNvSpPr/>
          <p:nvPr/>
        </p:nvSpPr>
        <p:spPr>
          <a:xfrm rot="5400000">
            <a:off x="7543080" y="487656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2" h="21600">
                <a:moveTo>
                  <a:pt x="31570" y="10800"/>
                </a:moveTo>
                <a:lnTo>
                  <a:pt x="21064" y="17806"/>
                </a:lnTo>
                <a:lnTo>
                  <a:pt x="21064" y="3794"/>
                </a:lnTo>
                <a:close/>
              </a:path>
              <a:path fill="darken" w="56142" h="21600">
                <a:moveTo>
                  <a:pt x="33415" y="3794"/>
                </a:moveTo>
                <a:lnTo>
                  <a:pt x="33415" y="17806"/>
                </a:lnTo>
                <a:lnTo>
                  <a:pt x="35077" y="17806"/>
                </a:lnTo>
                <a:lnTo>
                  <a:pt x="35077" y="3794"/>
                </a:lnTo>
                <a:close/>
              </a:path>
            </a:pathLst>
          </a:custGeom>
          <a:solidFill>
            <a:srgbClr val="dc893e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4680" y="380988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800000"/>
                </a:solidFill>
                <a:latin typeface="Arial"/>
              </a:rPr>
              <a:t>SFÂRŞIT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1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685800" y="480060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ustaţ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209680" y="480060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4114800" y="4800600"/>
            <a:ext cx="10666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arb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5334120" y="4800600"/>
            <a:ext cx="16761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frumoas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228600" y="541008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6019920"/>
            <a:ext cx="6781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5791320" y="990720"/>
            <a:ext cx="1796760" cy="23619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1219320" y="5410080"/>
            <a:ext cx="685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>
            <a:hlinkClick r:id="rId5" action="ppaction://hlinksldjump"/>
          </p:cNvPr>
          <p:cNvSpPr/>
          <p:nvPr/>
        </p:nvSpPr>
        <p:spPr>
          <a:xfrm>
            <a:off x="2057400" y="5410080"/>
            <a:ext cx="1600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lor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>
            <a:hlinkClick r:id="rId6" action="ppaction://hlinksldjump"/>
          </p:cNvPr>
          <p:cNvSpPr/>
          <p:nvPr/>
        </p:nvSpPr>
        <p:spPr>
          <a:xfrm>
            <a:off x="7162920" y="3886200"/>
            <a:ext cx="1758960" cy="49680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>
            <a:hlinkClick r:id="rId7" action="ppaction://hlinksldjump"/>
          </p:cNvPr>
          <p:cNvSpPr/>
          <p:nvPr/>
        </p:nvSpPr>
        <p:spPr>
          <a:xfrm rot="5400000">
            <a:off x="7733880" y="499104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1972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9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685800" y="480060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ustaţ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>
            <a:hlinkClick r:id="rId2" action="ppaction://hlinksldjump"/>
          </p:cNvPr>
          <p:cNvSpPr/>
          <p:nvPr/>
        </p:nvSpPr>
        <p:spPr>
          <a:xfrm>
            <a:off x="2209680" y="480060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3505320" y="480060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>
            <a:hlinkClick r:id="" action="ppaction://hlinkshowjump?jump=nextslide"/>
          </p:cNvPr>
          <p:cNvSpPr/>
          <p:nvPr/>
        </p:nvSpPr>
        <p:spPr>
          <a:xfrm>
            <a:off x="4114800" y="4800600"/>
            <a:ext cx="10666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arb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5334120" y="4800600"/>
            <a:ext cx="16761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frumoasă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228600" y="541008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5943600" y="1066680"/>
            <a:ext cx="1681200" cy="22100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09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1219320" y="5410080"/>
            <a:ext cx="6858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2057400" y="5410080"/>
            <a:ext cx="1600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lor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15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1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17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160" y="226800"/>
            <a:ext cx="647676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Mustaţa  lungă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şi barba frumoasă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5181480" y="281952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Mustaţa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1274760" cy="1676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22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5105520" y="4876920"/>
            <a:ext cx="18288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lung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2666880" y="5791320"/>
            <a:ext cx="495324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singular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160" y="226800"/>
            <a:ext cx="647676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barba frumoasă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sunt ale 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5105520" y="304812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arba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5715000" y="990720"/>
            <a:ext cx="1274760" cy="167616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31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4876920" y="4876920"/>
            <a:ext cx="20574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frumoas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2666880" y="5791320"/>
            <a:ext cx="495324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singular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476760" cy="611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Mustaţa  lungă şi barba frumoasă sunt al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opiilor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5715000" y="411480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opiilo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5791320" y="99072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40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>
            <a:hlinkClick r:id="" action="ppaction://hlinkshowjump?jump=nextslide"/>
          </p:cNvPr>
          <p:cNvSpPr/>
          <p:nvPr/>
        </p:nvSpPr>
        <p:spPr>
          <a:xfrm>
            <a:off x="1523880" y="5105520"/>
            <a:ext cx="609624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2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4340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46" name="">
            <a:hlinkClick r:id="rId2" action="ppaction://hlinksldjump"/>
          </p:cNvPr>
          <p:cNvSpPr/>
          <p:nvPr/>
        </p:nvSpPr>
        <p:spPr>
          <a:xfrm>
            <a:off x="30492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braj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>
            <a:hlinkClick r:id="rId3" action="ppaction://hlinksldjump"/>
          </p:cNvPr>
          <p:cNvSpPr/>
          <p:nvPr/>
        </p:nvSpPr>
        <p:spPr>
          <a:xfrm>
            <a:off x="1752480" y="4952880"/>
            <a:ext cx="15242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3352680" y="4952880"/>
            <a:ext cx="10670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era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nextslide"/>
          </p:cNvPr>
          <p:cNvSpPr/>
          <p:nvPr/>
        </p:nvSpPr>
        <p:spPr>
          <a:xfrm>
            <a:off x="4495680" y="495288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roş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560" y="5715000"/>
            <a:ext cx="70866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5943600" y="99072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62485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alz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">
            <a:hlinkClick r:id="rId6" action="ppaction://hlinksldjump"/>
          </p:cNvPr>
          <p:cNvSpPr/>
          <p:nvPr/>
        </p:nvSpPr>
        <p:spPr>
          <a:xfrm>
            <a:off x="7162920" y="3886200"/>
            <a:ext cx="1758960" cy="49680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8" name="">
            <a:hlinkClick r:id="rId7" action="ppaction://hlinksldjump"/>
          </p:cNvPr>
          <p:cNvSpPr/>
          <p:nvPr/>
        </p:nvSpPr>
        <p:spPr>
          <a:xfrm rot="5400000">
            <a:off x="7733880" y="499104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1972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6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64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bunicului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30492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braj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1752480" y="4952880"/>
            <a:ext cx="15242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">
            <a:hlinkClick r:id="" action="ppaction://hlinkshowjump?jump=nextslide"/>
          </p:cNvPr>
          <p:cNvSpPr/>
          <p:nvPr/>
        </p:nvSpPr>
        <p:spPr>
          <a:xfrm>
            <a:off x="563868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nextslide"/>
          </p:cNvPr>
          <p:cNvSpPr/>
          <p:nvPr/>
        </p:nvSpPr>
        <p:spPr>
          <a:xfrm>
            <a:off x="3352680" y="4952880"/>
            <a:ext cx="10670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era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4495680" y="495288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roşi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9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5562720" y="1219320"/>
            <a:ext cx="17380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74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">
            <a:hlinkClick r:id="rId5" action="ppaction://hlinksldjump"/>
          </p:cNvPr>
          <p:cNvSpPr/>
          <p:nvPr/>
        </p:nvSpPr>
        <p:spPr>
          <a:xfrm>
            <a:off x="62485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alz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380880"/>
            <a:ext cx="41907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3300"/>
                </a:solidFill>
                <a:latin typeface="Arial"/>
              </a:rPr>
              <a:t>Adjectivul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4191120"/>
            <a:ext cx="7238880" cy="213336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are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acelaşi numă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cu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pe care îl însoţeşte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se acordă în număr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7d47d"/>
                </a:solidFill>
                <a:latin typeface="Arial"/>
              </a:rPr>
              <a:t>cu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antivul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1600200"/>
            <a:ext cx="7315200" cy="236232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Partea de vorbire care exprimă </a:t>
            </a:r>
            <a:r>
              <a:rPr b="1" lang="ro-RO" sz="4400" spc="-1" strike="noStrike">
                <a:solidFill>
                  <a:srgbClr val="ff3300"/>
                </a:solidFill>
                <a:latin typeface="Times New Roman"/>
              </a:rPr>
              <a:t>însuşirea</a:t>
            </a: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unei fiinţe, unui lucru sau a unui fenomen al naturii se numşte </a:t>
            </a:r>
            <a:r>
              <a:rPr b="1" lang="ro-RO" sz="4000" spc="-1" strike="noStrike">
                <a:solidFill>
                  <a:srgbClr val="ff3300"/>
                </a:solidFill>
                <a:latin typeface="Arial"/>
              </a:rPr>
              <a:t>adjectiv</a:t>
            </a:r>
            <a:r>
              <a:rPr b="1" lang="ro-RO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ro-RO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8001000" y="4572000"/>
            <a:ext cx="914400" cy="17524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752480"/>
              <a:gd name="textAreaBottom" fmla="*/ 1693440 h 1752480"/>
            </a:gdLst>
            <a:ahLst/>
            <a:rect l="textAreaLeft" t="textAreaTop" r="textAreaRight" b="textAreaBottom"/>
            <a:pathLst>
              <a:path w="21600" h="41389">
                <a:moveTo>
                  <a:pt x="0" y="0"/>
                </a:moveTo>
                <a:lnTo>
                  <a:pt x="21600" y="0"/>
                </a:lnTo>
                <a:lnTo>
                  <a:pt x="21600" y="41389"/>
                </a:lnTo>
                <a:lnTo>
                  <a:pt x="0" y="41389"/>
                </a:lnTo>
                <a:close/>
              </a:path>
              <a:path fill="lightenLess" w="21600" h="413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1389">
                <a:moveTo>
                  <a:pt x="21600" y="0"/>
                </a:moveTo>
                <a:lnTo>
                  <a:pt x="21600" y="41389"/>
                </a:lnTo>
                <a:lnTo>
                  <a:pt x="20200" y="39989"/>
                </a:lnTo>
                <a:lnTo>
                  <a:pt x="20200" y="1400"/>
                </a:lnTo>
                <a:close/>
              </a:path>
              <a:path fill="darkenLess" w="21600" h="41389">
                <a:moveTo>
                  <a:pt x="21600" y="41389"/>
                </a:moveTo>
                <a:lnTo>
                  <a:pt x="0" y="41389"/>
                </a:lnTo>
                <a:lnTo>
                  <a:pt x="1400" y="39989"/>
                </a:lnTo>
                <a:lnTo>
                  <a:pt x="20200" y="39989"/>
                </a:lnTo>
                <a:close/>
              </a:path>
              <a:path fill="lighten" w="21600" h="41389">
                <a:moveTo>
                  <a:pt x="0" y="413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9989"/>
                </a:lnTo>
                <a:close/>
              </a:path>
              <a:path fill="darken" w="21600" h="41389">
                <a:moveTo>
                  <a:pt x="3794" y="17387"/>
                </a:moveTo>
                <a:lnTo>
                  <a:pt x="7301" y="17387"/>
                </a:lnTo>
                <a:lnTo>
                  <a:pt x="7301" y="22723"/>
                </a:lnTo>
                <a:cubicBezTo>
                  <a:pt x="7301" y="23645"/>
                  <a:pt x="8102" y="24376"/>
                  <a:pt x="9138" y="24376"/>
                </a:cubicBezTo>
                <a:lnTo>
                  <a:pt x="10800" y="24376"/>
                </a:lnTo>
                <a:cubicBezTo>
                  <a:pt x="11836" y="24376"/>
                  <a:pt x="12636" y="23645"/>
                  <a:pt x="12636" y="22723"/>
                </a:cubicBezTo>
                <a:lnTo>
                  <a:pt x="12636" y="17387"/>
                </a:lnTo>
                <a:lnTo>
                  <a:pt x="10800" y="17387"/>
                </a:lnTo>
                <a:lnTo>
                  <a:pt x="14308" y="13880"/>
                </a:lnTo>
                <a:lnTo>
                  <a:pt x="17981" y="17387"/>
                </a:lnTo>
                <a:lnTo>
                  <a:pt x="16144" y="17387"/>
                </a:lnTo>
                <a:lnTo>
                  <a:pt x="16144" y="22723"/>
                </a:lnTo>
                <a:cubicBezTo>
                  <a:pt x="16144" y="25490"/>
                  <a:pt x="13568" y="28049"/>
                  <a:pt x="10800" y="28049"/>
                </a:cubicBezTo>
                <a:lnTo>
                  <a:pt x="9138" y="28049"/>
                </a:lnTo>
                <a:cubicBezTo>
                  <a:pt x="6370" y="28049"/>
                  <a:pt x="3794" y="25490"/>
                  <a:pt x="3794" y="227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38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Obrajii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buniculu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erau roşii şi calz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419720" y="4648320"/>
            <a:ext cx="22860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uniculu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824440" y="1066680"/>
            <a:ext cx="1565280" cy="20574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86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1219320" y="5486400"/>
            <a:ext cx="624816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19720" y="34290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6800"/>
            <a:ext cx="7010640" cy="6109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Obraji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bunicului erau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roşi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 şi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calzi</a:t>
            </a: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4572000" y="3124080"/>
            <a:ext cx="19051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Obraji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5257800" y="121932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223344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2286000" y="4800600"/>
            <a:ext cx="19051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roşi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572000" y="4800600"/>
            <a:ext cx="19051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calz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7" name="">
            <a:hlinkClick r:id="" action="ppaction://hlinkshowjump?jump=nextslide"/>
          </p:cNvPr>
          <p:cNvSpPr/>
          <p:nvPr/>
        </p:nvSpPr>
        <p:spPr>
          <a:xfrm>
            <a:off x="160020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1905120" y="586728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9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3495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533520" y="4952880"/>
            <a:ext cx="12189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chii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19051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320040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3809880" y="4952880"/>
            <a:ext cx="19051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rives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533520" y="55627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pr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8" name="">
            <a:hlinkClick r:id="rId3" action="ppaction://hlinksldjump"/>
          </p:cNvPr>
          <p:cNvSpPr/>
          <p:nvPr/>
        </p:nvSpPr>
        <p:spPr>
          <a:xfrm>
            <a:off x="1523880" y="5562720"/>
            <a:ext cx="12956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9" name="">
            <a:hlinkClick r:id="" action="ppaction://hlinkshowjump?jump=nextslide"/>
          </p:cNvPr>
          <p:cNvSpPr/>
          <p:nvPr/>
        </p:nvSpPr>
        <p:spPr>
          <a:xfrm>
            <a:off x="2971800" y="5562720"/>
            <a:ext cx="12952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vesel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142640" y="6172200"/>
            <a:ext cx="67057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5"/>
          <a:stretch/>
        </p:blipFill>
        <p:spPr>
          <a:xfrm>
            <a:off x="5867280" y="1371600"/>
            <a:ext cx="1681200" cy="2209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12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4" name="">
            <a:hlinkClick r:id="rId6" action="ppaction://hlinksldjump"/>
          </p:cNvPr>
          <p:cNvSpPr/>
          <p:nvPr/>
        </p:nvSpPr>
        <p:spPr>
          <a:xfrm>
            <a:off x="7162920" y="4267080"/>
            <a:ext cx="1758960" cy="49716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5" name="">
            <a:hlinkClick r:id="rId7" action="ppaction://hlinksldjump"/>
          </p:cNvPr>
          <p:cNvSpPr/>
          <p:nvPr/>
        </p:nvSpPr>
        <p:spPr>
          <a:xfrm rot="5400000">
            <a:off x="7733880" y="5371920"/>
            <a:ext cx="1752480" cy="609480"/>
          </a:xfrm>
          <a:custGeom>
            <a:avLst/>
            <a:gdLst>
              <a:gd name="textAreaLeft" fmla="*/ 39240 w 1752480"/>
              <a:gd name="textAreaRight" fmla="*/ 1713240 w 1752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84" h="21600">
                <a:moveTo>
                  <a:pt x="0" y="0"/>
                </a:moveTo>
                <a:lnTo>
                  <a:pt x="62084" y="0"/>
                </a:lnTo>
                <a:lnTo>
                  <a:pt x="62084" y="21600"/>
                </a:lnTo>
                <a:lnTo>
                  <a:pt x="0" y="21600"/>
                </a:lnTo>
                <a:close/>
              </a:path>
              <a:path fill="lightenLess" w="62084" h="21600">
                <a:moveTo>
                  <a:pt x="0" y="0"/>
                </a:moveTo>
                <a:lnTo>
                  <a:pt x="62084" y="0"/>
                </a:lnTo>
                <a:lnTo>
                  <a:pt x="60684" y="1400"/>
                </a:lnTo>
                <a:lnTo>
                  <a:pt x="1400" y="1400"/>
                </a:lnTo>
                <a:close/>
              </a:path>
              <a:path fill="darken" w="62084" h="21600">
                <a:moveTo>
                  <a:pt x="62084" y="0"/>
                </a:moveTo>
                <a:lnTo>
                  <a:pt x="62084" y="21600"/>
                </a:lnTo>
                <a:lnTo>
                  <a:pt x="60684" y="20200"/>
                </a:lnTo>
                <a:lnTo>
                  <a:pt x="60684" y="1400"/>
                </a:lnTo>
                <a:close/>
              </a:path>
              <a:path fill="darkenLess" w="62084" h="21600">
                <a:moveTo>
                  <a:pt x="62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84" y="20200"/>
                </a:lnTo>
                <a:close/>
              </a:path>
              <a:path fill="lighten" w="62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84" h="21600">
                <a:moveTo>
                  <a:pt x="24036" y="3794"/>
                </a:moveTo>
                <a:lnTo>
                  <a:pt x="38049" y="10800"/>
                </a:lnTo>
                <a:lnTo>
                  <a:pt x="24036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42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809880" cy="34959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533520" y="4952880"/>
            <a:ext cx="12189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Ochii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1905120" y="4952880"/>
            <a:ext cx="11430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6" name="">
            <a:hlinkClick r:id="" action="ppaction://hlinkshowjump?jump=nextslide"/>
          </p:cNvPr>
          <p:cNvSpPr/>
          <p:nvPr/>
        </p:nvSpPr>
        <p:spPr>
          <a:xfrm>
            <a:off x="3200400" y="495288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7" name="">
            <a:hlinkClick r:id="rId3" action="ppaction://hlinksldjump"/>
          </p:cNvPr>
          <p:cNvSpPr/>
          <p:nvPr/>
        </p:nvSpPr>
        <p:spPr>
          <a:xfrm>
            <a:off x="3809880" y="4952880"/>
            <a:ext cx="19051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867280" y="4952880"/>
            <a:ext cx="13716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rivesc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533520" y="55627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pr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1523880" y="5562720"/>
            <a:ext cx="12956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opii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1" name="">
            <a:hlinkClick r:id="rId4" action="ppaction://hlinksldjump"/>
          </p:cNvPr>
          <p:cNvSpPr/>
          <p:nvPr/>
        </p:nvSpPr>
        <p:spPr>
          <a:xfrm>
            <a:off x="2971800" y="5562720"/>
            <a:ext cx="12952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vesel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73808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34" name=""/>
          <p:cNvSpPr/>
          <p:nvPr/>
        </p:nvSpPr>
        <p:spPr>
          <a:xfrm>
            <a:off x="4343400" y="37339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43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Ochii blânzi şi mângâietori</a:t>
            </a: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 privesc spre copiii veseli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352680" cy="307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3733920" y="198108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Ochii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substantivele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926480" y="152388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45" name="">
            <a:hlinkClick r:id="" action="ppaction://hlinkshowjump?jump=nextslide"/>
          </p:cNvPr>
          <p:cNvSpPr/>
          <p:nvPr/>
        </p:nvSpPr>
        <p:spPr>
          <a:xfrm>
            <a:off x="1447920" y="312408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6" name="">
            <a:hlinkClick r:id="" action="ppaction://hlinkshowjump?jump=nextslide"/>
          </p:cNvPr>
          <p:cNvSpPr/>
          <p:nvPr/>
        </p:nvSpPr>
        <p:spPr>
          <a:xfrm>
            <a:off x="1447920" y="4114800"/>
            <a:ext cx="18288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blânz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1447920" y="510552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3581280" y="4114800"/>
            <a:ext cx="25909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mângâietor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9" name="">
            <a:hlinkClick r:id="rId4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315200" cy="91440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Ochii blânzi şi mângâietori privesc spre </a:t>
            </a:r>
            <a:r>
              <a:rPr b="1" lang="ro-RO" sz="2800" spc="-1" strike="noStrike">
                <a:solidFill>
                  <a:srgbClr val="ff3300"/>
                </a:solidFill>
                <a:latin typeface="Arial"/>
              </a:rPr>
              <a:t>copiii veseli</a:t>
            </a:r>
            <a:r>
              <a:rPr b="1" lang="ro-RO" sz="2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3352680" cy="307656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452" name="">
            <a:hlinkClick r:id="" action="ppaction://hlinkshowjump?jump=nextslide"/>
          </p:cNvPr>
          <p:cNvSpPr/>
          <p:nvPr/>
        </p:nvSpPr>
        <p:spPr>
          <a:xfrm>
            <a:off x="3733920" y="1981080"/>
            <a:ext cx="18288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opiii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42640" y="6172200"/>
            <a:ext cx="62485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substantivele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7926480" y="304920"/>
            <a:ext cx="121752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1447920" y="312408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.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1447920" y="5105520"/>
            <a:ext cx="56386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 la nr. plural 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3581280" y="4114800"/>
            <a:ext cx="259092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vesel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8" name="">
            <a:hlinkClick r:id="rId4" action="ppaction://hlinksldjump"/>
          </p:cNvPr>
          <p:cNvSpPr/>
          <p:nvPr/>
        </p:nvSpPr>
        <p:spPr>
          <a:xfrm>
            <a:off x="8077320" y="4952880"/>
            <a:ext cx="914400" cy="14479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920"/>
              <a:gd name="textAreaBottom" fmla="*/ 1388880 h 1447920"/>
            </a:gdLst>
            <a:ahLst/>
            <a:rect l="textAreaLeft" t="textAreaTop" r="textAreaRight" b="textAreaBottom"/>
            <a:pathLst>
              <a:path w="21600" h="34198">
                <a:moveTo>
                  <a:pt x="0" y="0"/>
                </a:moveTo>
                <a:lnTo>
                  <a:pt x="21600" y="0"/>
                </a:lnTo>
                <a:lnTo>
                  <a:pt x="21600" y="34198"/>
                </a:lnTo>
                <a:lnTo>
                  <a:pt x="0" y="34198"/>
                </a:lnTo>
                <a:close/>
              </a:path>
              <a:path fill="lightenLess" w="21600" h="341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98">
                <a:moveTo>
                  <a:pt x="21600" y="0"/>
                </a:moveTo>
                <a:lnTo>
                  <a:pt x="21600" y="34198"/>
                </a:lnTo>
                <a:lnTo>
                  <a:pt x="20200" y="32798"/>
                </a:lnTo>
                <a:lnTo>
                  <a:pt x="20200" y="1400"/>
                </a:lnTo>
                <a:close/>
              </a:path>
              <a:path fill="darkenLess" w="21600" h="34198">
                <a:moveTo>
                  <a:pt x="21600" y="34198"/>
                </a:moveTo>
                <a:lnTo>
                  <a:pt x="0" y="34198"/>
                </a:lnTo>
                <a:lnTo>
                  <a:pt x="1400" y="32798"/>
                </a:lnTo>
                <a:lnTo>
                  <a:pt x="20200" y="32798"/>
                </a:lnTo>
                <a:close/>
              </a:path>
              <a:path fill="lighten" w="21600" h="34198">
                <a:moveTo>
                  <a:pt x="0" y="341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98"/>
                </a:lnTo>
                <a:close/>
              </a:path>
              <a:path fill="darken" w="21600" h="34198">
                <a:moveTo>
                  <a:pt x="3794" y="13792"/>
                </a:moveTo>
                <a:lnTo>
                  <a:pt x="7301" y="13792"/>
                </a:lnTo>
                <a:lnTo>
                  <a:pt x="7301" y="19127"/>
                </a:lnTo>
                <a:cubicBezTo>
                  <a:pt x="7301" y="20049"/>
                  <a:pt x="8102" y="20781"/>
                  <a:pt x="9138" y="20781"/>
                </a:cubicBezTo>
                <a:lnTo>
                  <a:pt x="10800" y="20781"/>
                </a:lnTo>
                <a:cubicBezTo>
                  <a:pt x="11836" y="20781"/>
                  <a:pt x="12636" y="20049"/>
                  <a:pt x="12636" y="19127"/>
                </a:cubicBezTo>
                <a:lnTo>
                  <a:pt x="12636" y="13792"/>
                </a:lnTo>
                <a:lnTo>
                  <a:pt x="10800" y="13792"/>
                </a:lnTo>
                <a:lnTo>
                  <a:pt x="14308" y="10284"/>
                </a:lnTo>
                <a:lnTo>
                  <a:pt x="17981" y="13792"/>
                </a:lnTo>
                <a:lnTo>
                  <a:pt x="16144" y="13792"/>
                </a:lnTo>
                <a:lnTo>
                  <a:pt x="16144" y="19127"/>
                </a:lnTo>
                <a:cubicBezTo>
                  <a:pt x="16144" y="21895"/>
                  <a:pt x="13568" y="24454"/>
                  <a:pt x="10800" y="24454"/>
                </a:cubicBezTo>
                <a:lnTo>
                  <a:pt x="9138" y="24454"/>
                </a:lnTo>
                <a:cubicBezTo>
                  <a:pt x="6370" y="24454"/>
                  <a:pt x="3794" y="21895"/>
                  <a:pt x="3794" y="19127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lastslide"/>
          </p:cNvPr>
          <p:cNvSpPr/>
          <p:nvPr/>
        </p:nvSpPr>
        <p:spPr>
          <a:xfrm rot="5400000">
            <a:off x="7543080" y="2819160"/>
            <a:ext cx="1981440" cy="762120"/>
          </a:xfrm>
          <a:custGeom>
            <a:avLst/>
            <a:gdLst>
              <a:gd name="textAreaLeft" fmla="*/ 49320 w 1981440"/>
              <a:gd name="textAreaRight" fmla="*/ 1932120 w 1981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42" h="21600">
                <a:moveTo>
                  <a:pt x="0" y="0"/>
                </a:moveTo>
                <a:lnTo>
                  <a:pt x="56142" y="0"/>
                </a:lnTo>
                <a:lnTo>
                  <a:pt x="56142" y="21600"/>
                </a:lnTo>
                <a:lnTo>
                  <a:pt x="0" y="21600"/>
                </a:lnTo>
                <a:close/>
              </a:path>
              <a:path fill="lightenLess" w="56142" h="21600">
                <a:moveTo>
                  <a:pt x="0" y="0"/>
                </a:moveTo>
                <a:lnTo>
                  <a:pt x="56142" y="0"/>
                </a:lnTo>
                <a:lnTo>
                  <a:pt x="54742" y="1400"/>
                </a:lnTo>
                <a:lnTo>
                  <a:pt x="1400" y="1400"/>
                </a:lnTo>
                <a:close/>
              </a:path>
              <a:path fill="darken" w="56142" h="21600">
                <a:moveTo>
                  <a:pt x="56142" y="0"/>
                </a:moveTo>
                <a:lnTo>
                  <a:pt x="56142" y="21600"/>
                </a:lnTo>
                <a:lnTo>
                  <a:pt x="54742" y="20200"/>
                </a:lnTo>
                <a:lnTo>
                  <a:pt x="54742" y="1400"/>
                </a:lnTo>
                <a:close/>
              </a:path>
              <a:path fill="darkenLess" w="56142" h="21600">
                <a:moveTo>
                  <a:pt x="561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2" y="20200"/>
                </a:lnTo>
                <a:close/>
              </a:path>
              <a:path fill="lighten" w="561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2" h="21600">
                <a:moveTo>
                  <a:pt x="31570" y="10800"/>
                </a:moveTo>
                <a:lnTo>
                  <a:pt x="21064" y="17806"/>
                </a:lnTo>
                <a:lnTo>
                  <a:pt x="21064" y="3794"/>
                </a:lnTo>
                <a:close/>
              </a:path>
              <a:path fill="darken" w="56142" h="21600">
                <a:moveTo>
                  <a:pt x="33415" y="3794"/>
                </a:moveTo>
                <a:lnTo>
                  <a:pt x="33415" y="17806"/>
                </a:lnTo>
                <a:lnTo>
                  <a:pt x="35077" y="17806"/>
                </a:lnTo>
                <a:lnTo>
                  <a:pt x="35077" y="3794"/>
                </a:lnTo>
                <a:close/>
              </a:path>
            </a:pathLst>
          </a:custGeom>
          <a:solidFill>
            <a:srgbClr val="dc893e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48720" y="4267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800000"/>
                </a:solidFill>
                <a:latin typeface="Arial"/>
              </a:rPr>
              <a:t>SFÂRŞI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238880" cy="3429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5724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ffff99"/>
                </a:solidFill>
                <a:latin typeface="Arial"/>
              </a:rPr>
              <a:t>Acordul adjectivului cu substantivul</a:t>
            </a:r>
            <a:endParaRPr b="0" lang="en-US" sz="6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8229600" y="762120"/>
            <a:ext cx="685800" cy="13716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1371600"/>
              <a:gd name="textAreaBottom" fmla="*/ 1327320 h 1371600"/>
            </a:gdLst>
            <a:ahLst/>
            <a:rect l="textAreaLeft" t="textAreaTop" r="textAreaRight" b="textAreaBottom"/>
            <a:pathLst>
              <a:path w="21600" h="43189">
                <a:moveTo>
                  <a:pt x="0" y="0"/>
                </a:moveTo>
                <a:lnTo>
                  <a:pt x="21600" y="0"/>
                </a:lnTo>
                <a:lnTo>
                  <a:pt x="21600" y="43189"/>
                </a:lnTo>
                <a:lnTo>
                  <a:pt x="0" y="43189"/>
                </a:lnTo>
                <a:close/>
              </a:path>
              <a:path fill="lightenLess" w="21600" h="43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189">
                <a:moveTo>
                  <a:pt x="21600" y="0"/>
                </a:moveTo>
                <a:lnTo>
                  <a:pt x="21600" y="43189"/>
                </a:lnTo>
                <a:lnTo>
                  <a:pt x="20200" y="41789"/>
                </a:lnTo>
                <a:lnTo>
                  <a:pt x="20200" y="1400"/>
                </a:lnTo>
                <a:close/>
              </a:path>
              <a:path fill="darkenLess" w="21600" h="43189">
                <a:moveTo>
                  <a:pt x="21600" y="43189"/>
                </a:moveTo>
                <a:lnTo>
                  <a:pt x="0" y="43189"/>
                </a:lnTo>
                <a:lnTo>
                  <a:pt x="1400" y="41789"/>
                </a:lnTo>
                <a:lnTo>
                  <a:pt x="20200" y="41789"/>
                </a:lnTo>
                <a:close/>
              </a:path>
              <a:path fill="lighten" w="21600" h="43189">
                <a:moveTo>
                  <a:pt x="0" y="43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789"/>
                </a:lnTo>
                <a:close/>
              </a:path>
              <a:path fill="darken" w="21600" h="43189">
                <a:moveTo>
                  <a:pt x="3794" y="18287"/>
                </a:moveTo>
                <a:lnTo>
                  <a:pt x="7301" y="18287"/>
                </a:lnTo>
                <a:lnTo>
                  <a:pt x="7301" y="23622"/>
                </a:lnTo>
                <a:cubicBezTo>
                  <a:pt x="7301" y="24545"/>
                  <a:pt x="8102" y="25276"/>
                  <a:pt x="9138" y="25276"/>
                </a:cubicBezTo>
                <a:lnTo>
                  <a:pt x="10800" y="25276"/>
                </a:lnTo>
                <a:cubicBezTo>
                  <a:pt x="11836" y="25276"/>
                  <a:pt x="12636" y="24545"/>
                  <a:pt x="12636" y="23622"/>
                </a:cubicBezTo>
                <a:lnTo>
                  <a:pt x="12636" y="18287"/>
                </a:lnTo>
                <a:lnTo>
                  <a:pt x="10800" y="18287"/>
                </a:lnTo>
                <a:lnTo>
                  <a:pt x="14308" y="14779"/>
                </a:lnTo>
                <a:lnTo>
                  <a:pt x="17981" y="18287"/>
                </a:lnTo>
                <a:lnTo>
                  <a:pt x="16144" y="18287"/>
                </a:lnTo>
                <a:lnTo>
                  <a:pt x="16144" y="23622"/>
                </a:lnTo>
                <a:cubicBezTo>
                  <a:pt x="16144" y="26390"/>
                  <a:pt x="13568" y="28949"/>
                  <a:pt x="10800" y="28949"/>
                </a:cubicBezTo>
                <a:lnTo>
                  <a:pt x="9138" y="28949"/>
                </a:lnTo>
                <a:cubicBezTo>
                  <a:pt x="6370" y="28949"/>
                  <a:pt x="3794" y="26390"/>
                  <a:pt x="3794" y="23622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28600" y="4191120"/>
            <a:ext cx="7238880" cy="213336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0b854"/>
                </a:solidFill>
                <a:latin typeface="Arial"/>
              </a:rPr>
              <a:t>Adjectivul are acelaşi număr cu substantivul pe care îl însoţeşte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0b854"/>
                </a:solidFill>
                <a:latin typeface="Arial"/>
              </a:rPr>
              <a:t>Adjectivul se acordă în număr cu subsantivul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371600" y="4724280"/>
            <a:ext cx="48769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2f1311"/>
                  </a:solidFill>
                  <a:miter/>
                </a:ln>
                <a:gradFill rotWithShape="0">
                  <a:gsLst>
                    <a:gs pos="0">
                      <a:srgbClr val="fff200">
                        <a:alpha val="83137"/>
                      </a:srgbClr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 Black"/>
              </a:rPr>
              <a:t>SFÂRŞIT</a:t>
            </a:r>
            <a:endParaRPr b="0" lang="en-US" sz="8000" spc="1" strike="noStrike">
              <a:ln w="19080">
                <a:solidFill>
                  <a:srgbClr val="2f1311"/>
                </a:solidFill>
                <a:miter/>
              </a:ln>
              <a:gradFill rotWithShape="0">
                <a:gsLst>
                  <a:gs pos="0">
                    <a:srgbClr val="fff200">
                      <a:alpha val="83137"/>
                    </a:srgbClr>
                  </a:gs>
                  <a:gs pos="100000">
                    <a:srgbClr val="4d0808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65" name="">
            <a:hlinkClick r:id="" action="ppaction://hlinkshowjump?jump=endshow"/>
          </p:cNvPr>
          <p:cNvSpPr/>
          <p:nvPr/>
        </p:nvSpPr>
        <p:spPr>
          <a:xfrm rot="5400000">
            <a:off x="8076600" y="586728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solidFill>
            <a:srgbClr val="f0b8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1" presetSubtype="2">
                                  <p:stCondLst>
                                    <p:cond delay="600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9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d47d"/>
            </a:gs>
            <a:gs pos="100000">
              <a:srgbClr val="c160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238880" cy="8380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Pletele albe şi creţe ale bunicului parcă sunt nişte ciorchini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733560" cy="34261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1066680" y="4876920"/>
            <a:ext cx="12193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lete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2438280" y="4876920"/>
            <a:ext cx="8384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b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038480" y="487692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reţ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304920" y="5486400"/>
            <a:ext cx="9903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arc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1371600" y="548640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2362320" y="548640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nişt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>
            <a:hlinkClick r:id="rId3" action="ppaction://hlinksldjump"/>
          </p:cNvPr>
          <p:cNvSpPr/>
          <p:nvPr/>
        </p:nvSpPr>
        <p:spPr>
          <a:xfrm>
            <a:off x="3429000" y="548640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iorchin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990720" y="6019920"/>
            <a:ext cx="67816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substantivele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5638680" y="1143000"/>
            <a:ext cx="1797120" cy="2362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5105520" y="487692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>
            <a:hlinkClick r:id="rId6" action="ppaction://hlinksldjump"/>
          </p:cNvPr>
          <p:cNvSpPr/>
          <p:nvPr/>
        </p:nvSpPr>
        <p:spPr>
          <a:xfrm>
            <a:off x="6095880" y="4876920"/>
            <a:ext cx="14479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>
            <a:hlinkClick r:id="rId7" action="ppaction://hlinksldjump"/>
          </p:cNvPr>
          <p:cNvSpPr/>
          <p:nvPr/>
        </p:nvSpPr>
        <p:spPr>
          <a:xfrm rot="5400000">
            <a:off x="7733880" y="5295960"/>
            <a:ext cx="1752840" cy="609480"/>
          </a:xfrm>
          <a:custGeom>
            <a:avLst/>
            <a:gdLst>
              <a:gd name="textAreaLeft" fmla="*/ 39240 w 1752840"/>
              <a:gd name="textAreaRight" fmla="*/ 1713600 w 1752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62097" h="21600">
                <a:moveTo>
                  <a:pt x="0" y="0"/>
                </a:moveTo>
                <a:lnTo>
                  <a:pt x="62097" y="0"/>
                </a:lnTo>
                <a:lnTo>
                  <a:pt x="62097" y="21600"/>
                </a:lnTo>
                <a:lnTo>
                  <a:pt x="0" y="21600"/>
                </a:lnTo>
                <a:close/>
              </a:path>
              <a:path fill="lightenLess" w="62097" h="21600">
                <a:moveTo>
                  <a:pt x="0" y="0"/>
                </a:moveTo>
                <a:lnTo>
                  <a:pt x="62097" y="0"/>
                </a:lnTo>
                <a:lnTo>
                  <a:pt x="60697" y="1400"/>
                </a:lnTo>
                <a:lnTo>
                  <a:pt x="1400" y="1400"/>
                </a:lnTo>
                <a:close/>
              </a:path>
              <a:path fill="darken" w="62097" h="21600">
                <a:moveTo>
                  <a:pt x="62097" y="0"/>
                </a:moveTo>
                <a:lnTo>
                  <a:pt x="62097" y="21600"/>
                </a:lnTo>
                <a:lnTo>
                  <a:pt x="60697" y="20200"/>
                </a:lnTo>
                <a:lnTo>
                  <a:pt x="60697" y="1400"/>
                </a:lnTo>
                <a:close/>
              </a:path>
              <a:path fill="darkenLess" w="62097" h="21600">
                <a:moveTo>
                  <a:pt x="62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97" y="20200"/>
                </a:lnTo>
                <a:close/>
              </a:path>
              <a:path fill="lighten" w="62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2097" h="21600">
                <a:moveTo>
                  <a:pt x="24042" y="3794"/>
                </a:moveTo>
                <a:lnTo>
                  <a:pt x="38055" y="10800"/>
                </a:lnTo>
                <a:lnTo>
                  <a:pt x="24042" y="17806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>
            <a:hlinkClick r:id="rId8" action="ppaction://hlinksldjump"/>
          </p:cNvPr>
          <p:cNvSpPr/>
          <p:nvPr/>
        </p:nvSpPr>
        <p:spPr>
          <a:xfrm>
            <a:off x="7162920" y="4267080"/>
            <a:ext cx="1758960" cy="497160"/>
          </a:xfrm>
          <a:prstGeom prst="rect">
            <a:avLst/>
          </a:prstGeom>
          <a:solidFill>
            <a:srgbClr val="800000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cc"/>
                </a:solidFill>
                <a:latin typeface="Arial"/>
              </a:rPr>
              <a:t>Adjectiv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8001000" y="228600"/>
            <a:ext cx="1143000" cy="609480"/>
          </a:xfrm>
          <a:prstGeom prst="rect">
            <a:avLst/>
          </a:prstGeom>
          <a:solidFill>
            <a:srgbClr val="ffffcc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Alegi altă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propoziţi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 rot="16200000">
            <a:off x="7353000" y="1714320"/>
            <a:ext cx="2438640" cy="685800"/>
          </a:xfrm>
          <a:custGeom>
            <a:avLst/>
            <a:gdLst>
              <a:gd name="textAreaLeft" fmla="*/ 44280 w 2438640"/>
              <a:gd name="textAreaRight" fmla="*/ 2394360 w 2438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76779" h="21600">
                <a:moveTo>
                  <a:pt x="0" y="0"/>
                </a:moveTo>
                <a:lnTo>
                  <a:pt x="76779" y="0"/>
                </a:lnTo>
                <a:lnTo>
                  <a:pt x="76779" y="21600"/>
                </a:lnTo>
                <a:lnTo>
                  <a:pt x="0" y="21600"/>
                </a:lnTo>
                <a:close/>
              </a:path>
              <a:path fill="lightenLess" w="76779" h="21600">
                <a:moveTo>
                  <a:pt x="0" y="0"/>
                </a:moveTo>
                <a:lnTo>
                  <a:pt x="76779" y="0"/>
                </a:lnTo>
                <a:lnTo>
                  <a:pt x="75379" y="1400"/>
                </a:lnTo>
                <a:lnTo>
                  <a:pt x="1400" y="1400"/>
                </a:lnTo>
                <a:close/>
              </a:path>
              <a:path fill="darken" w="76779" h="21600">
                <a:moveTo>
                  <a:pt x="76779" y="0"/>
                </a:moveTo>
                <a:lnTo>
                  <a:pt x="76779" y="21600"/>
                </a:lnTo>
                <a:lnTo>
                  <a:pt x="75379" y="20200"/>
                </a:lnTo>
                <a:lnTo>
                  <a:pt x="75379" y="1400"/>
                </a:lnTo>
                <a:close/>
              </a:path>
              <a:path fill="darkenLess" w="76779" h="21600">
                <a:moveTo>
                  <a:pt x="76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379" y="20200"/>
                </a:lnTo>
                <a:close/>
              </a:path>
              <a:path fill="lighten" w="76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779" h="21600">
                <a:moveTo>
                  <a:pt x="31383" y="3794"/>
                </a:moveTo>
                <a:lnTo>
                  <a:pt x="45396" y="10800"/>
                </a:lnTo>
                <a:lnTo>
                  <a:pt x="31383" y="17806"/>
                </a:lnTo>
                <a:close/>
              </a:path>
            </a:pathLst>
          </a:custGeom>
          <a:solidFill>
            <a:srgbClr val="ffffcc"/>
          </a:solidFill>
          <a:ln w="284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36576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3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f7d47d"/>
          </a:solidFill>
          <a:ln w="38160">
            <a:solidFill>
              <a:srgbClr val="8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Pletele albe şi creţe ale bunicului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35" name="">
            <a:hlinkClick r:id="" action="ppaction://hlinkshowjump?jump=nextslide"/>
          </p:cNvPr>
          <p:cNvSpPr/>
          <p:nvPr/>
        </p:nvSpPr>
        <p:spPr>
          <a:xfrm>
            <a:off x="1066680" y="4876920"/>
            <a:ext cx="12193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lete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2438280" y="4876920"/>
            <a:ext cx="83844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b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4572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ş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>
            <a:hlinkClick r:id="rId3" action="ppaction://hlinksldjump"/>
          </p:cNvPr>
          <p:cNvSpPr/>
          <p:nvPr/>
        </p:nvSpPr>
        <p:spPr>
          <a:xfrm>
            <a:off x="4038480" y="487692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reţ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228600" y="5486400"/>
            <a:ext cx="99072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parcă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1371600" y="5486400"/>
            <a:ext cx="8380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sunt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2362320" y="5486400"/>
            <a:ext cx="91440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nişt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nextslide"/>
          </p:cNvPr>
          <p:cNvSpPr/>
          <p:nvPr/>
        </p:nvSpPr>
        <p:spPr>
          <a:xfrm>
            <a:off x="3505320" y="548640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ciorchini </a:t>
            </a:r>
            <a:r>
              <a:rPr b="1" lang="ro-RO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19320" y="6019920"/>
            <a:ext cx="62481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Cu un “clic” recunoşti </a:t>
            </a:r>
            <a:r>
              <a:rPr b="1" lang="ro-RO" sz="3200" spc="-1" strike="noStrike">
                <a:solidFill>
                  <a:srgbClr val="ffffff"/>
                </a:solidFill>
                <a:latin typeface="Arial"/>
              </a:rPr>
              <a:t>adjectivele </a:t>
            </a:r>
            <a:r>
              <a:rPr b="1" lang="ro-RO" sz="2400" spc="-1" strike="noStrike">
                <a:solidFill>
                  <a:srgbClr val="2f1311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943600" y="990720"/>
            <a:ext cx="1738440" cy="2286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5105520" y="4876920"/>
            <a:ext cx="76176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ale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6019920" y="4876920"/>
            <a:ext cx="1523880" cy="457200"/>
          </a:xfrm>
          <a:prstGeom prst="rect">
            <a:avLst/>
          </a:prstGeom>
          <a:solidFill>
            <a:srgbClr val="dc893e"/>
          </a:solidFill>
          <a:ln w="381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cc"/>
                </a:solidFill>
                <a:latin typeface="Arial"/>
              </a:rPr>
              <a:t>bunicului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35053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 rot="2083800">
            <a:off x="0" y="2708280"/>
            <a:ext cx="6877080" cy="12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 R E Ş I T   !  !  !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410080" y="533520"/>
            <a:ext cx="3378240" cy="291780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pic>
        <p:nvPicPr>
          <p:cNvPr id="25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2971800" y="609480"/>
            <a:ext cx="1104840" cy="1057320"/>
          </a:xfrm>
          <a:prstGeom prst="rect">
            <a:avLst/>
          </a:prstGeom>
          <a:ln w="38160">
            <a:solidFill>
              <a:srgbClr val="79af7d"/>
            </a:solidFill>
            <a:miter/>
          </a:ln>
        </p:spPr>
      </p:pic>
      <p:sp>
        <p:nvSpPr>
          <p:cNvPr id="252" name="">
            <a:hlinkClick r:id="" action="ppaction://hlinkshowjump?jump=previousslide"/>
          </p:cNvPr>
          <p:cNvSpPr/>
          <p:nvPr/>
        </p:nvSpPr>
        <p:spPr>
          <a:xfrm>
            <a:off x="6948360" y="4149720"/>
            <a:ext cx="1731960" cy="1946160"/>
          </a:xfrm>
          <a:custGeom>
            <a:avLst/>
            <a:gdLst>
              <a:gd name="textAreaLeft" fmla="*/ 111960 w 1731960"/>
              <a:gd name="textAreaRight" fmla="*/ 1620000 w 1731960"/>
              <a:gd name="textAreaTop" fmla="*/ 111960 h 1946160"/>
              <a:gd name="textAreaBottom" fmla="*/ 1834200 h 1946160"/>
            </a:gdLst>
            <a:ahLst/>
            <a:rect l="textAreaLeft" t="textAreaTop" r="textAreaRight" b="textAreaBottom"/>
            <a:pathLst>
              <a:path w="21600" h="24271">
                <a:moveTo>
                  <a:pt x="0" y="0"/>
                </a:moveTo>
                <a:lnTo>
                  <a:pt x="21600" y="0"/>
                </a:lnTo>
                <a:lnTo>
                  <a:pt x="21600" y="24271"/>
                </a:lnTo>
                <a:lnTo>
                  <a:pt x="0" y="24271"/>
                </a:lnTo>
                <a:close/>
              </a:path>
              <a:path fill="lightenLess" w="21600" h="242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71">
                <a:moveTo>
                  <a:pt x="21600" y="0"/>
                </a:moveTo>
                <a:lnTo>
                  <a:pt x="21600" y="24271"/>
                </a:lnTo>
                <a:lnTo>
                  <a:pt x="20200" y="22871"/>
                </a:lnTo>
                <a:lnTo>
                  <a:pt x="20200" y="1400"/>
                </a:lnTo>
                <a:close/>
              </a:path>
              <a:path fill="darkenLess" w="21600" h="24271">
                <a:moveTo>
                  <a:pt x="21600" y="24271"/>
                </a:moveTo>
                <a:lnTo>
                  <a:pt x="0" y="24271"/>
                </a:lnTo>
                <a:lnTo>
                  <a:pt x="1400" y="22871"/>
                </a:lnTo>
                <a:lnTo>
                  <a:pt x="20200" y="22871"/>
                </a:lnTo>
                <a:close/>
              </a:path>
              <a:path fill="lighten" w="21600" h="24271">
                <a:moveTo>
                  <a:pt x="0" y="242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71"/>
                </a:lnTo>
                <a:close/>
              </a:path>
              <a:path fill="darken" w="21600" h="24271">
                <a:moveTo>
                  <a:pt x="3794" y="8828"/>
                </a:moveTo>
                <a:lnTo>
                  <a:pt x="7301" y="8828"/>
                </a:lnTo>
                <a:lnTo>
                  <a:pt x="7301" y="14163"/>
                </a:lnTo>
                <a:cubicBezTo>
                  <a:pt x="7301" y="15086"/>
                  <a:pt x="8102" y="15817"/>
                  <a:pt x="9138" y="15817"/>
                </a:cubicBezTo>
                <a:lnTo>
                  <a:pt x="10800" y="15817"/>
                </a:lnTo>
                <a:cubicBezTo>
                  <a:pt x="11836" y="15817"/>
                  <a:pt x="12636" y="15086"/>
                  <a:pt x="12636" y="14163"/>
                </a:cubicBezTo>
                <a:lnTo>
                  <a:pt x="12636" y="8828"/>
                </a:lnTo>
                <a:lnTo>
                  <a:pt x="10800" y="8828"/>
                </a:lnTo>
                <a:lnTo>
                  <a:pt x="14308" y="5320"/>
                </a:lnTo>
                <a:lnTo>
                  <a:pt x="17981" y="8828"/>
                </a:lnTo>
                <a:lnTo>
                  <a:pt x="16144" y="8828"/>
                </a:lnTo>
                <a:lnTo>
                  <a:pt x="16144" y="14163"/>
                </a:lnTo>
                <a:cubicBezTo>
                  <a:pt x="16144" y="16931"/>
                  <a:pt x="13568" y="19490"/>
                  <a:pt x="10800" y="19490"/>
                </a:cubicBezTo>
                <a:lnTo>
                  <a:pt x="9138" y="19490"/>
                </a:lnTo>
                <a:cubicBezTo>
                  <a:pt x="6370" y="19490"/>
                  <a:pt x="3794" y="16931"/>
                  <a:pt x="3794" y="14163"/>
                </a:cubicBezTo>
                <a:close/>
              </a:path>
            </a:pathLst>
          </a:custGeom>
          <a:solidFill>
            <a:srgbClr val="33ccff"/>
          </a:solidFill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bunicului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5257800" y="3124080"/>
            <a:ext cx="160020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Pletel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638680" y="1143000"/>
            <a:ext cx="1217880" cy="1600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1676520" y="3962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3581280" y="4876920"/>
            <a:ext cx="16002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lbe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5867280" y="4876920"/>
            <a:ext cx="160020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creţe</a:t>
            </a: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1828800" y="5791320"/>
            <a:ext cx="5867280" cy="6858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adjective la nr. plural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bunicului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 parcă sunt nişte ciorchini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5257800" y="4191120"/>
            <a:ext cx="21337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buniculu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226200" y="1143000"/>
            <a:ext cx="1392120" cy="18288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1371600" y="5105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singular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304812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620120" cy="61128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Pletele albe şi creţe</a:t>
            </a:r>
            <a:r>
              <a:rPr b="1" lang="ro-RO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ale bunicului parcă sunt nişte </a:t>
            </a:r>
            <a:r>
              <a:rPr b="1" lang="ro-RO" sz="2000" spc="-1" strike="noStrike">
                <a:solidFill>
                  <a:srgbClr val="ff3300"/>
                </a:solidFill>
                <a:latin typeface="Arial"/>
              </a:rPr>
              <a:t>ciorchini</a:t>
            </a:r>
            <a:r>
              <a:rPr b="1" lang="ro-RO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228600" y="1028880"/>
            <a:ext cx="3962520" cy="36352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5257800" y="4191120"/>
            <a:ext cx="213372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ciorchini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248520" y="990720"/>
            <a:ext cx="1508040" cy="19810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1371600" y="5105520"/>
            <a:ext cx="6095880" cy="685800"/>
          </a:xfrm>
          <a:prstGeom prst="rect">
            <a:avLst/>
          </a:prstGeom>
          <a:solidFill>
            <a:srgbClr val="ffff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800000"/>
                </a:solidFill>
                <a:latin typeface="Arial"/>
              </a:rPr>
              <a:t>substantiv comun nr. plural </a:t>
            </a:r>
            <a:r>
              <a:rPr b="1" lang="ro-RO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077320" y="5105520"/>
            <a:ext cx="914400" cy="144756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447560"/>
              <a:gd name="textAreaBottom" fmla="*/ 1388520 h 1447560"/>
            </a:gdLst>
            <a:ahLst/>
            <a:rect l="textAreaLeft" t="textAreaTop" r="textAreaRight" b="textAreaBottom"/>
            <a:pathLst>
              <a:path w="21600" h="34189">
                <a:moveTo>
                  <a:pt x="0" y="0"/>
                </a:moveTo>
                <a:lnTo>
                  <a:pt x="21600" y="0"/>
                </a:lnTo>
                <a:lnTo>
                  <a:pt x="21600" y="34189"/>
                </a:lnTo>
                <a:lnTo>
                  <a:pt x="0" y="34189"/>
                </a:lnTo>
                <a:close/>
              </a:path>
              <a:path fill="lightenLess" w="21600" h="341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189">
                <a:moveTo>
                  <a:pt x="21600" y="0"/>
                </a:moveTo>
                <a:lnTo>
                  <a:pt x="21600" y="34189"/>
                </a:lnTo>
                <a:lnTo>
                  <a:pt x="20200" y="32789"/>
                </a:lnTo>
                <a:lnTo>
                  <a:pt x="20200" y="1400"/>
                </a:lnTo>
                <a:close/>
              </a:path>
              <a:path fill="darkenLess" w="21600" h="34189">
                <a:moveTo>
                  <a:pt x="21600" y="34189"/>
                </a:moveTo>
                <a:lnTo>
                  <a:pt x="0" y="34189"/>
                </a:lnTo>
                <a:lnTo>
                  <a:pt x="1400" y="32789"/>
                </a:lnTo>
                <a:lnTo>
                  <a:pt x="20200" y="32789"/>
                </a:lnTo>
                <a:close/>
              </a:path>
              <a:path fill="lighten" w="21600" h="34189">
                <a:moveTo>
                  <a:pt x="0" y="3418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789"/>
                </a:lnTo>
                <a:close/>
              </a:path>
              <a:path fill="darken" w="21600" h="34189">
                <a:moveTo>
                  <a:pt x="3794" y="13787"/>
                </a:moveTo>
                <a:lnTo>
                  <a:pt x="7301" y="13787"/>
                </a:lnTo>
                <a:lnTo>
                  <a:pt x="7301" y="19123"/>
                </a:lnTo>
                <a:cubicBezTo>
                  <a:pt x="7301" y="20045"/>
                  <a:pt x="8102" y="20776"/>
                  <a:pt x="9138" y="20776"/>
                </a:cubicBezTo>
                <a:lnTo>
                  <a:pt x="10800" y="20776"/>
                </a:lnTo>
                <a:cubicBezTo>
                  <a:pt x="11836" y="20776"/>
                  <a:pt x="12636" y="20045"/>
                  <a:pt x="12636" y="19123"/>
                </a:cubicBezTo>
                <a:lnTo>
                  <a:pt x="12636" y="13787"/>
                </a:lnTo>
                <a:lnTo>
                  <a:pt x="10800" y="13787"/>
                </a:lnTo>
                <a:lnTo>
                  <a:pt x="14308" y="10280"/>
                </a:lnTo>
                <a:lnTo>
                  <a:pt x="17981" y="13787"/>
                </a:lnTo>
                <a:lnTo>
                  <a:pt x="16144" y="13787"/>
                </a:lnTo>
                <a:lnTo>
                  <a:pt x="16144" y="19123"/>
                </a:lnTo>
                <a:cubicBezTo>
                  <a:pt x="16144" y="21890"/>
                  <a:pt x="13568" y="24449"/>
                  <a:pt x="10800" y="24449"/>
                </a:cubicBezTo>
                <a:lnTo>
                  <a:pt x="9138" y="24449"/>
                </a:lnTo>
                <a:cubicBezTo>
                  <a:pt x="6370" y="24449"/>
                  <a:pt x="3794" y="21890"/>
                  <a:pt x="3794" y="19123"/>
                </a:cubicBez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200400"/>
            <a:ext cx="3165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2f1311"/>
                </a:solidFill>
                <a:latin typeface="Arial"/>
              </a:rPr>
              <a:t>Barbu Ştefănescu Delavrance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18:49:58Z</dcterms:created>
  <dc:creator>*Paulis</dc:creator>
  <dc:description/>
  <dc:language>en-US</dc:language>
  <cp:lastModifiedBy>*</cp:lastModifiedBy>
  <dcterms:modified xsi:type="dcterms:W3CDTF">2007-02-11T22:38:21Z</dcterms:modified>
  <cp:revision>7</cp:revision>
  <dc:subject>Limba romana</dc:subject>
  <dc:title>Acordul adjectivului cu substantivul</dc:title>
</cp:coreProperties>
</file>